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9FC-CFF2-4982-9BB4-040D1B0D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CC4-B2A0-45C1-B3B0-84FB5A3B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30C-3A6D-4ED7-8FC5-BD7682F8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C56-2011-49BB-A496-A21C7B1A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B388-4054-4770-B3A6-055BE9A8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1B7C-5B8D-49A8-8028-865F8A4A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5565-3920-49E8-BF3A-C15EDC88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B843-FF68-42A3-868E-33F53B10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A110-6C5E-4F8F-91F5-B62AFFD8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B8E8-3632-41A5-973B-CE1235EC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5404-FA9A-4F6F-AF34-19609743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BFE-C748-4DE6-98E0-061672AD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DDBA-BF3C-42F5-9B92-C6FE516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8D1E-D789-47F3-A153-674C393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2A2D-6413-4D05-94D5-71C9CF7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D11-1D27-4FD8-BEF9-8A32BE2E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76AE-CD06-4DF1-B59E-FD7A06DD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3F8-C69F-490E-856B-8865E3D2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DE6-5A2C-4071-8E0E-51AFF969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89E-97A7-4E1C-8E37-F5A5AEFD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E3E-5AFA-4147-AF93-DC80305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51E-758D-4E53-B872-211B0015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49D-722A-4F34-A8A7-E676C326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31C-C60F-4118-A18B-E32A43F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374-3C68-4691-82BE-6FDA4CDC3B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d6b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97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16f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57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3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67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a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a58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0473-6F7B-4AA9-B8EF-90065BFF5D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ouseinteriorhome.com/wp-content/uploads/2010/11/dining-room-under-wat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Guillermo Di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s mi mansi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ón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6772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648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 cocina es muy bonito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Mi cuarto es muy moderno!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s un garaje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71760" y="2301840"/>
            <a:ext cx="5056200" cy="3794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600200" y="1295280"/>
            <a:ext cx="5372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i Garaje muy gra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09680"/>
            <a:ext cx="822960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514600" y="228600"/>
            <a:ext cx="41148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ill Sans Ultra Bold Condensed"/>
              </a:rPr>
              <a:t>Es un come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ill Sans Ultra Bold Condensed"/>
              <a:ea typeface="Gill Sans Ultra Bold Condense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1523880"/>
            <a:ext cx="8001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 comedor es muy bonito y medern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 ban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i bano muy luj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Bathroom Designs steam"/>
          <p:cNvPicPr/>
          <p:nvPr/>
        </p:nvPicPr>
        <p:blipFill>
          <a:blip r:embed="rId1"/>
          <a:stretch/>
        </p:blipFill>
        <p:spPr>
          <a:xfrm>
            <a:off x="533520" y="2095560"/>
            <a:ext cx="82296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 sala es muy muy boni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0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10:02Z</dcterms:created>
  <dc:creator>diazgui</dc:creator>
  <dc:description/>
  <dc:language>en-US</dc:language>
  <cp:lastModifiedBy>diazgui</cp:lastModifiedBy>
  <dcterms:modified xsi:type="dcterms:W3CDTF">2012-10-25T17:12:56Z</dcterms:modified>
  <cp:revision>4</cp:revision>
  <dc:subject/>
  <dc:title>LA CASA</dc:title>
</cp:coreProperties>
</file>